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739-4A2A-4BA8-A088-A6D4183F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03E-396E-409E-9872-259FB227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316-7B68-43DB-B8F9-06EDB282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A80-6E35-4B8D-A285-4BEFDD22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9CD-32DC-4EE9-943C-D485C565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3BE-F13F-4A63-837E-55C692EC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863-CC76-4BD0-A684-D54BD2DC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A37-806B-441A-9BEE-438A803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619-6B68-42E3-80E6-C139CEE5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B79-E235-4909-988C-EF338888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17B-7B7B-4D8C-9A3E-EC57D707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762-0BC7-4CC5-BB76-74D32EC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0532B-9D34-4CCB-93B9-61EF129A4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42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43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44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45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46" name="Straight Arrow Connector 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47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48" name="Straight Connector 8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" name="Straight Connector 11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0" name="Straight Connector 12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1" name="Straight Connector 13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2" name="TextBox 23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53" name="TextBox 2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4" name="TextBox 26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" name="TextBox 37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TextBox 38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9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extBox 43"/>
          <p:cNvSpPr/>
          <p:nvPr/>
        </p:nvSpPr>
        <p:spPr>
          <a:xfrm>
            <a:off x="2624040" y="53640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from this Grap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you Determ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Questions Do 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Do You Want to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sp>
          <p:nvSpPr>
            <p:cNvPr id="62" name="Oval 13"/>
            <p:cNvSpPr/>
            <p:nvPr/>
          </p:nvSpPr>
          <p:spPr>
            <a:xfrm>
              <a:off x="2074320" y="170676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637800" y="414540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Group 2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65" name="Group 19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66" name="Group 3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68" name="Straight Arrow Connector 7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69" name="Straight Arrow Connector 8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0" name="Straight Connector 9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1" name="TextBox 5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72" name="TextBox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3" name="TextBox 15"/>
                <p:cNvSpPr/>
                <p:nvPr/>
              </p:nvSpPr>
              <p:spPr>
                <a:xfrm>
                  <a:off x="2249280" y="15231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0,4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Box 18"/>
                <p:cNvSpPr/>
                <p:nvPr/>
              </p:nvSpPr>
              <p:spPr>
                <a:xfrm>
                  <a:off x="3769920" y="39315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4,1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" name="TextBox 20"/>
              <p:cNvSpPr/>
              <p:nvPr/>
            </p:nvSpPr>
            <p:spPr>
              <a:xfrm>
                <a:off x="2737800" y="2525400"/>
                <a:ext cx="125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river 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6" name="TextBox 23"/>
          <p:cNvSpPr/>
          <p:nvPr/>
        </p:nvSpPr>
        <p:spPr>
          <a:xfrm>
            <a:off x="1947960" y="479520"/>
            <a:ext cx="42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given this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ordered pairs to the graph that make sense to you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79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80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81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82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83" name="Straight Arrow Connector 1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84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85" name="Straight Connector 16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6" name="Straight Connector 17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7" name="Straight Connector 18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Straight Connector 19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9" name="TextBox 12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90" name="TextBox 1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1" name="TextBox 10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Box 8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Box 5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ize What you 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 on Your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start in your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get 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id you get un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re some general ideas about graphs do you think you understand now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you know you understand those ide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you learn any knew math skills while thinking about this proble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 Your Learning- What was Your Pa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319800" cy="3768480"/>
        </p:xfrm>
        <a:graphic>
          <a:graphicData uri="http://schemas.openxmlformats.org/drawingml/2006/table">
            <a:tbl>
              <a:tblPr/>
              <a:tblGrid>
                <a:gridCol w="1263600"/>
                <a:gridCol w="1263960"/>
                <a:gridCol w="1265040"/>
                <a:gridCol w="1263600"/>
                <a:gridCol w="126360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067280" y="5173560"/>
            <a:ext cx="411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ol in Development – C.S. Walker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7:55:16Z</dcterms:created>
  <dc:creator>Carren  Walker</dc:creator>
  <dc:description/>
  <dc:language>en-US</dc:language>
  <cp:lastModifiedBy>Carren  Walker</cp:lastModifiedBy>
  <dcterms:modified xsi:type="dcterms:W3CDTF">2011-07-23T19:29:05Z</dcterms:modified>
  <cp:revision>2</cp:revision>
  <dc:subject/>
  <dc:title>Slide 1</dc:title>
</cp:coreProperties>
</file>